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1CD-1A3B-4EB9-9BC5-D5AC2778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62F-99B0-4A06-88EA-215377C2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14D-4891-4686-A1A1-5B8452C1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EA7-07F6-4D39-BED9-08813B3F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2EF6-E89A-45E2-84F2-943EDCA5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12AF-A08E-4F85-8CF9-D5AAC4C9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AC8A-DDA7-40A9-A3F0-29A2648B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9226-2571-4930-A51D-1FEFDE68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2AD3-B368-4A86-99AE-8B1067B2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8539-BA5C-4693-8465-7FA08DC0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AFE5-9C60-4B47-96DC-2FC8CFA9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DE0-3BBD-442F-8269-35F0C6BF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E9CA-A5BB-47C4-B7BD-8E015FCD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FB27-CF9B-4DB2-B980-2F197422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53CC-FFAF-43B0-900D-28905BEF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B1B1-6AB7-4F3C-9141-39431A2F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2FDF-6DAB-4711-B055-0C0AD165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F1A29-5D3E-409D-9DB7-93835AB9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093D0-52DD-4E47-AD41-BA4D896F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5CF41-8969-4453-AFEB-F1A04F15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2CD3C-964B-4DF4-A3FC-870D1237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3D51E-6515-40FB-88C3-D6390862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223-023C-41A5-82E1-81DF2718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100A4-E7CD-43BB-8D9B-0FD6C2B7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05BE3-A5B0-47DD-A8FF-70E61615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013DE-B8C2-45D5-AC2C-0234B560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34FD7-AAE7-4EF1-B370-591136F0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09858-F12F-4CF6-A684-49BF9B5C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C2882-4EDC-4267-BCB0-9D40A571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E7D6E-9E07-4589-AA45-F2E252E5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B6267-0BBB-4924-B71A-6DCFAE43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8CC97-4BD0-4D12-8EFA-CABD5EE3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FF7B6-AC88-45A9-B95E-5173738B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141-26D4-4A6E-902D-813EBD38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27CED-822D-4D76-9B24-8BD1B72D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88BD5-8CCB-498A-9FAF-DFF1FADB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60D77-D2F5-4C8A-B734-9DDB9E22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4CCB2-2390-48BF-B7CD-529A3D41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CD9B3-A732-44BB-A1DC-88E2AA63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52177-2FE9-4BCC-AB07-F64105FD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180F5-7DFA-4467-854C-C0DA2E33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E0FB5-832A-4FAC-B948-3E765B4F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6B6CF-CEB6-4068-8C44-8DD4CF5A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86472-1F88-43D4-940A-B0E2EF9B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5F75-3D17-47B7-9837-45688790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07B9A-F0A0-4FCE-9349-A30040D1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21D96-C835-4CBE-9ADB-23FE4809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8DF23-BB8E-41BA-A91E-D85182E6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11C88-CD49-4812-AEF9-D79ED63D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9D092-BFA9-4655-B35A-69010D94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CD2F9-B275-4E43-B1E9-47DB8BAF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D8A5D-BAB3-48CE-B8CC-1D808FA5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2C2A4-03AD-4381-B968-87752A9B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9C970-D63F-4624-B35E-AF0B82BE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A3A79-4FB3-410D-8678-ADDF6344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0EA-942E-46E6-8E7A-5500B848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C2CCA-C971-4AF7-BD21-0D400F09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CB9FB-8C4E-46A8-B9DA-71D1D4E2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EB61C-E357-4441-81A5-26C81BE8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955DF-0E57-47D8-81D1-5E393F9E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54F12-6528-4BE6-9730-291DAC0D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648FD-75DD-4DE5-BC87-B0528D9A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DA05A-3533-4935-9520-876828A3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A200B-C39F-496F-B524-A865C1F9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CE6C7-2DBB-4BE3-93D1-BDACF578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1B901-1A1D-440E-97F7-6AF20CC1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9AF-B67B-4B9F-8540-42B9E098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B2EC1-26BF-4183-95CB-1EF946EB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7B6F7-BD9C-4CBB-8590-E0C61147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0A37A-9B60-4B1C-A1C5-FBA9D2DF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59FD1-EF74-4C42-8A0A-3C9A0E22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71858-9E9E-4598-9EFC-140C5367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798FD-1E44-418B-8581-EF12AFAC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8362C-E716-4960-99A8-1665BF45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E3DF2-8A77-4544-A6A1-BE308705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61588-F26A-43B8-8224-D527F372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2057B-8ECF-4269-8D9B-BEB59901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CF1-0CD7-4616-A704-62E89521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BF8D4-92D5-404B-AC31-6F96055E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1AD21-2DA3-4E93-8228-2A4A8DBE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EF8F0-925C-49F9-A14B-5A384D65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11373-13B7-490A-9A52-6CAC8184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69EBE-FBBA-4784-BC2A-843E82A0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B5C7-7E27-404A-9333-177DCBCF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D0B0-C662-4A32-9BE3-2999EEBD0A6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3218-9FFA-48BA-A75F-1B2B658CB41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A395-F28F-4784-9DA7-9F31E71CBBD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7C48-4F44-4C3F-B80C-122CF2AF11F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2B73-3E26-49D3-9EB5-873FD2D6E94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93FC-F407-48D1-BD8E-C33DBF852A9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5562-9096-4808-9C3E-42077F333CA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Existentialism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Ilissa Pizarro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Stephanie Laureano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968400" y="2057400"/>
            <a:ext cx="7407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A philosophy that emphasizes the uniqueness and isolation of the individual experience in a hostile or indifferent world, regards human existence as unexplainable, stresses freedom of choice and responsibility for the consequences of one's act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2" descr="http://www.himalayanacademy.com/resources/books/dws/images/dws-t-is-one-Existentialism.jpg"/>
          <p:cNvPicPr/>
          <p:nvPr/>
        </p:nvPicPr>
        <p:blipFill>
          <a:blip r:embed="rId1"/>
          <a:stretch/>
        </p:blipFill>
        <p:spPr>
          <a:xfrm>
            <a:off x="3352680" y="4216320"/>
            <a:ext cx="26384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1904760"/>
            <a:ext cx="740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Importance of the individua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"What does it mean to be existing as a human being?“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Importance of choic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We are constituted by our decision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Anxiety regarding life, death, contingencies, and extreme situation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eing human is finding oneself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aning and absurdit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We question about our lives in search of our purpose in lif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oncepts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71560" y="2057400"/>
            <a:ext cx="7408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Authenticit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e need to be honest with ourselves and each othe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Social criticis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rms of hiding expressions of fear and ignoranc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Importance of personal relation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reating meaning, actually means creating and discovering relations between peopl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Atheism and Relig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Human beings must make decisions that create meaning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685800" y="2057040"/>
            <a:ext cx="740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"Sky is not a limit for me; because I have no limit for myself in life. Because life is a world full of risk taking and possibilities. No matter how hard or easy life is; I will always find a way to enjoy myself; even in the mist of circumstances; because problems is a sense of adventure in sheep's clothing."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—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emitope Owosela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Quo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609120" y="2438280"/>
            <a:ext cx="80010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http://www.thefreedictionary.com/existentialis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b87d6"/>
                </a:solidFill>
                <a:uFillTx/>
                <a:latin typeface="Candara"/>
              </a:rPr>
              <a:t>http://www.allaboutphilosophy.org/existentialism.ht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b87d6"/>
                </a:solidFill>
                <a:uFillTx/>
                <a:latin typeface="Candara"/>
              </a:rPr>
              <a:t>http://people.bu.edu/wwildman/WeirdWildWeb/courses/wphil/lectures/wphil_theme20.ht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5:14:26Z</dcterms:created>
  <dc:creator>Estephani</dc:creator>
  <dc:description/>
  <dc:language>en-US</dc:language>
  <cp:lastModifiedBy>Estephani</cp:lastModifiedBy>
  <dcterms:modified xsi:type="dcterms:W3CDTF">2011-02-16T03:22:33Z</dcterms:modified>
  <cp:revision>9</cp:revision>
  <dc:subject/>
  <dc:title>Existentialism</dc:title>
</cp:coreProperties>
</file>